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2DB2-4BC7-4A93-B87C-F0BCC7BDE9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8827-E447-4906-9A3E-3138C87E46E0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2749-7CB3-40A4-B18C-8652F009BEE8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C6A7-9BAD-4361-9601-E35B5365648B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009D-B0A7-477A-A626-7813DAE0CC7E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C6F4-1DE4-4598-B335-179E7B94D464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FE22-0D8A-4F47-92A5-29AFDB6D4040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C964-7FDC-4293-9262-E3C23C150DFB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C40C-B353-4FA9-A017-9018D24E8FDD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EA97-7654-4415-A5CE-EC9EF1108CDA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7A3F-AC35-487F-B74D-5AAA61B51352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FBB3-9F96-4D15-9E87-E3B68E1DB963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7552-9F1E-45B0-8A3A-B06F9C9462D5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0A6C-FAFB-4DAB-897B-3F561D19BD84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7B2E-9A19-49CD-8F82-38E46BF30624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0CF0-994F-481F-B70C-4D74CA541DEF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CAE3-DC6A-46D5-83BF-559FE45DCD67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1DB5-19B1-4129-9FCD-7A3113E669E5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CAE4-B2AE-4E20-85F8-37D54BE5B4CD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84B5-5535-4EA4-8594-856A0AC784ED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7F47-A58F-4961-953E-AF1CC574AB3F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012A-1E50-4D48-A505-1C7D376A75EB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6343-867E-4741-8626-1540740068F2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55D8-A358-4BDF-BA3E-F7551C911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604F-E876-48F0-8A9A-AF88B567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A3EF-55A9-4B5E-BF5B-B87DE91D9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BBD9-E2F7-491C-8A34-CAB3FFF5A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122F-9C83-49F8-9D3A-470658CC7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563E-A279-4409-85DD-E4FE1AAA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6324-2EF0-45FB-BC82-9402D478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0256-F464-4C20-8AE6-0AE35E45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E3D8-AE37-418D-9073-33D06277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B53B-4F96-461C-9044-9D4494F9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E55B-D137-40A8-9EA3-59E2C029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660F-D5DD-4356-AEE3-B010019E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68BC-E3D8-4163-AD46-65FBC720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7846-8FDC-475E-B8B6-BC35E20E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0F7C-95B6-4E8E-AA6A-8D8460BD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6B06-3FD5-48FC-816E-4C7037533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7C06-5671-4950-BBF0-6FEB45AFC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89AE-EC24-4C34-9673-E93B0025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B409-64DF-4233-A1DF-069D955A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BF1C-EF1D-4BCF-96AF-7F760743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A209-2456-44E7-B019-095AA222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383A-4C01-4498-AF51-68766ED3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DC2F-5C6D-43B5-A871-9CF8D379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34F2-6FC8-4038-8F2D-2CCE53A4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E7AC-F5B5-4FFF-B8CA-A653EE7CD5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2593-A32F-4A6A-B9B2-CFBC5343C0AC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teachpol.tcnj.edu/amer_pol_hist/thumbnail453.html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00600" y="1523520"/>
            <a:ext cx="3881520" cy="2133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o Kill a Mockingbird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410080" y="3886200"/>
            <a:ext cx="2819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 Harper Le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1" name="Picture 6" descr="mockingbird"/>
          <p:cNvPicPr/>
          <p:nvPr/>
        </p:nvPicPr>
        <p:blipFill>
          <a:blip r:embed="rId1"/>
          <a:stretch/>
        </p:blipFill>
        <p:spPr>
          <a:xfrm>
            <a:off x="762120" y="1676520"/>
            <a:ext cx="38098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76360" y="7617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thur “Boo” Radl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2361960"/>
            <a:ext cx="8226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enigm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adult man, whose father has “sentenced”  him to a lifetime confinement to their house because of some mischief he got into when he was a teenag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s a reputation of being a lunati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ically a harmless, well-meaning per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metimes childlike in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arving for love and affe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ves Jem and Scout from certain dang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8" name="Picture 5" descr="200px-Killmockingbird217"/>
          <p:cNvPicPr/>
          <p:nvPr/>
        </p:nvPicPr>
        <p:blipFill>
          <a:blip r:embed="rId1"/>
          <a:stretch/>
        </p:blipFill>
        <p:spPr>
          <a:xfrm>
            <a:off x="762120" y="135000"/>
            <a:ext cx="236196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m Robins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419720" y="1598400"/>
            <a:ext cx="426240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young, harmless, innocent, hardworking black m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s a crippled left h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rried with three children. Works on a farm belonging to Mr. Link Deas, a white m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ill be falsely accused of raping a white girl, Mayella E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1" name="Picture 5" descr="Copy_of_Mockingbird2"/>
          <p:cNvPicPr/>
          <p:nvPr/>
        </p:nvPicPr>
        <p:blipFill>
          <a:blip r:embed="rId1"/>
          <a:srcRect l="51562" t="0" r="0" b="0"/>
          <a:stretch/>
        </p:blipFill>
        <p:spPr>
          <a:xfrm>
            <a:off x="914400" y="1981080"/>
            <a:ext cx="291456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l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497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close friend of Jem and Scou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ually lives in Maycomb only during the summer (stays with a relative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lls “big stories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s been deprived of love and affec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4" name="Picture 5" descr="growing7"/>
          <p:cNvPicPr/>
          <p:nvPr/>
        </p:nvPicPr>
        <p:blipFill>
          <a:blip r:embed="rId1"/>
          <a:stretch/>
        </p:blipFill>
        <p:spPr>
          <a:xfrm>
            <a:off x="5257800" y="1905120"/>
            <a:ext cx="32004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wo Poor White Families: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e Cunninghams                  The Ewell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or white fami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rd-work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u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rvive on very lit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ways pay back their debts – even if it is with hickory nuts, turnips, or holl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or white tras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r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z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ood-for-noth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ever done a day’s wor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ul-mouth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hone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mmor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Black Commun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e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rd-work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od fear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u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ould never take anything with paying it bac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spectfu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d stronger character than most of the whit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ppress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neducat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criminated agai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alked about bad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erve better than what is dished out to them by socie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79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5400" y="1219320"/>
            <a:ext cx="8226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the language of Scout will be that of her as a child; other times, she will be speaking in the voice of an adul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tticus uses formal speec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lpurnia uses “white language” in the Finch house and switches to “black jargon” when amidst black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Ewells use foul words and obscenit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em, Scout, and Dill will use slang words, typical of their 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om Robinson uses language typical of the southern black such as “suh” for “sir” and “chillun” for “children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arious derogatory terms for blacks will be used such as “nigger,” “darky,” “Negroes,” and “colored folk” – Lee uses such language to keep her novel naturally in sync with common language of the tim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Somber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Serious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Humorous  (at times)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32018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arper L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1371240"/>
            <a:ext cx="4802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he was born in 1926 in Monroeville, Alabama (the fictional “Maycomb, Alabama”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r father “Amasa” was a lawyer whom she deeply admire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r mother’s maiden name was “Finch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r own childhood mirrors that of the character “Scout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n 1960 she published her only novel – “To Kill a Mockingbird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t received the Pulitzer Prize for Literature in 196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nce 1960, “To Kill a Mockingbird” has never been out of pri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t age 81, she is alive and resides in New York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he rarely makes public appearances or gives interview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7" name="Picture 7" descr="harper_lee"/>
          <p:cNvPicPr/>
          <p:nvPr/>
        </p:nvPicPr>
        <p:blipFill>
          <a:blip r:embed="rId1">
            <a:lum bright="12000"/>
          </a:blip>
          <a:srcRect l="48488" t="16668" r="0" b="0"/>
          <a:stretch/>
        </p:blipFill>
        <p:spPr>
          <a:xfrm>
            <a:off x="6172200" y="380880"/>
            <a:ext cx="1700280" cy="32004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0" descr="Harper Lee receives an honorary degree from the University of Notre Dame, Indiana, US"/>
          <p:cNvPicPr/>
          <p:nvPr/>
        </p:nvPicPr>
        <p:blipFill>
          <a:blip r:embed="rId2"/>
          <a:stretch/>
        </p:blipFill>
        <p:spPr>
          <a:xfrm>
            <a:off x="5486400" y="3886200"/>
            <a:ext cx="338148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fe During the 1930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760" y="1219320"/>
            <a:ext cx="40370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ace Re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Nine black teenagers are falsely charged with raping two white women in Scottsboro, Alabama; eight are convicted and sentenced to death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U.S. Supreme Court reverses their convictions because their constitutional rights had been violat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teens are tried for a second time, and are again found guilty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Supreme Court reverses the convictions agai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ventually, four of the defendants are freed; the other five serve prison term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last Scottsboro defendant was paroled in 195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t was virtually impossible for a black to receive a fair tria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1" name="Picture 7" descr="SCOTTS"/>
          <p:cNvPicPr/>
          <p:nvPr/>
        </p:nvPicPr>
        <p:blipFill>
          <a:blip r:embed="rId1"/>
          <a:stretch/>
        </p:blipFill>
        <p:spPr>
          <a:xfrm>
            <a:off x="4572000" y="1828800"/>
            <a:ext cx="419112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4" descr="FDR%20fireside%20chat%20March%201933"/>
          <p:cNvPicPr/>
          <p:nvPr/>
        </p:nvPicPr>
        <p:blipFill>
          <a:blip r:embed="rId1"/>
          <a:stretch/>
        </p:blipFill>
        <p:spPr>
          <a:xfrm>
            <a:off x="5562720" y="4038480"/>
            <a:ext cx="3122640" cy="23958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6720" cy="609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fe During the 1930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83772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he Great Depression sweeps the nation – Many families do not even have money for basic needs such as food, clothing, and shelt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he per capita income for families in Alabama (and Oklahoma) is $125 - $250 a ye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any southern blacks pick cotton for a livi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ranklin D. Roosevelt is Preside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Picture 5" descr="acoffee"/>
          <p:cNvPicPr/>
          <p:nvPr/>
        </p:nvPicPr>
        <p:blipFill>
          <a:blip r:embed="rId2"/>
          <a:srcRect l="0" t="0" r="0" b="17713"/>
          <a:stretch/>
        </p:blipFill>
        <p:spPr>
          <a:xfrm>
            <a:off x="5334120" y="160020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1" descr="DLange"/>
          <p:cNvPicPr/>
          <p:nvPr/>
        </p:nvPicPr>
        <p:blipFill>
          <a:blip r:embed="rId3"/>
          <a:srcRect l="10978" t="13287" r="20497" b="13772"/>
          <a:stretch/>
        </p:blipFill>
        <p:spPr>
          <a:xfrm>
            <a:off x="3657600" y="4191120"/>
            <a:ext cx="1558800" cy="20574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7" descr="oldcotton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609480" y="4419720"/>
            <a:ext cx="2667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t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ycomb, Alabama (fictional city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933-1935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though slavery has long been abolished, the Southerners in Maycomb continue to believe in white supremac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4" name="Picture 8" descr="Old Monroe County Courthouse"/>
          <p:cNvPicPr/>
          <p:nvPr/>
        </p:nvPicPr>
        <p:blipFill>
          <a:blip r:embed="rId1"/>
          <a:stretch/>
        </p:blipFill>
        <p:spPr>
          <a:xfrm>
            <a:off x="4419720" y="2368440"/>
            <a:ext cx="426708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fe During the 1930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5400" y="1066680"/>
            <a:ext cx="5182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tler is Chancellor of German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 believes that Jews, African Americans, and other races are inferior to Anglo-Saxon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n 1936, Jesse Owens, a black American athlete, traveled to Germany to participate in the Summer Olympic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wens’ biggest competitor in the long jump was a German named Luz Long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espite racial tensions, the two became good friends.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Jesse Owens won the gold medal and Long won the silv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Long was later killed during World War II, and Jesse Owens traveled back to Germany to pay his respects when the war was ov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0" name="Picture 7" descr="owen3"/>
          <p:cNvPicPr/>
          <p:nvPr/>
        </p:nvPicPr>
        <p:blipFill>
          <a:blip r:embed="rId1"/>
          <a:stretch/>
        </p:blipFill>
        <p:spPr>
          <a:xfrm>
            <a:off x="5943600" y="4419720"/>
            <a:ext cx="2610000" cy="20955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9" descr="hitler4"/>
          <p:cNvPicPr/>
          <p:nvPr/>
        </p:nvPicPr>
        <p:blipFill>
          <a:blip r:embed="rId2"/>
          <a:stretch/>
        </p:blipFill>
        <p:spPr>
          <a:xfrm>
            <a:off x="6248520" y="1143000"/>
            <a:ext cx="205416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egal Segregation in Alabama, 1923-1940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5760" y="1828440"/>
            <a:ext cx="4037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No white female nurses in hospitals that treat black m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e passenger cars for whites and black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e waiting rooms for whites and black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ion of white and black convi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e school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No interracial marriag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gregated water fountain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gregated theatr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4" name="Picture 9" descr="SEGREGATION"/>
          <p:cNvPicPr/>
          <p:nvPr/>
        </p:nvPicPr>
        <p:blipFill>
          <a:blip r:embed="rId1"/>
          <a:srcRect l="0" t="0" r="38020" b="0"/>
          <a:stretch/>
        </p:blipFill>
        <p:spPr>
          <a:xfrm>
            <a:off x="6248520" y="955800"/>
            <a:ext cx="2438280" cy="16747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2" descr="School segregation protest.">
            <a:hlinkClick r:id="rId2"/>
          </p:cNvPr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4876920" y="2819520"/>
            <a:ext cx="3254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400" y="151920"/>
            <a:ext cx="822636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orphine: A Southern Lady’s Dru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5760" y="990360"/>
            <a:ext cx="4037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1930s Typical Morphine Addic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ite fema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iddle-aged or old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idow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meboun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ives in the sout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perty own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gan using morphine for medical reasons (pain relief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45080" y="990360"/>
            <a:ext cx="4037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n “To Kill a Mockingbird,” the Finch children will become acquainted with a morphine addict named Mrs. Dubose.  Although only a fictitious character, she personifies the American morphine addict of the late nineteenth and early twentieth centuries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9" name="Picture 6" descr="MrsDubose"/>
          <p:cNvPicPr/>
          <p:nvPr/>
        </p:nvPicPr>
        <p:blipFill>
          <a:blip r:embed="rId1"/>
          <a:srcRect l="9056" t="17400" r="15472" b="13000"/>
          <a:stretch/>
        </p:blipFill>
        <p:spPr>
          <a:xfrm>
            <a:off x="5486400" y="3657600"/>
            <a:ext cx="25160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7257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acial Prejudi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cial Snobbe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ral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lera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ati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Need for Compa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Need for Consci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Picture 12" descr="Mkgbrd"/>
          <p:cNvPicPr/>
          <p:nvPr/>
        </p:nvPicPr>
        <p:blipFill>
          <a:blip r:embed="rId1"/>
          <a:stretch/>
        </p:blipFill>
        <p:spPr>
          <a:xfrm>
            <a:off x="5410080" y="1371600"/>
            <a:ext cx="3270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ymbolis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760" y="2133720"/>
            <a:ext cx="8307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The Mockingbird:  Symbolizes Everything That is Good and Harmless in This Worl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mockingbird only sings to please others and therefore it is considered a sin to shoot a mockingbird.  They are considered harmless creatures who give joy with their song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mockingbird image or symbol appears four times in the nove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wo characters in the novel symbolize the mockingbird:  Tom Robinson &amp; Boo Radle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0" name="Picture 5" descr="mockingbird"/>
          <p:cNvPicPr/>
          <p:nvPr/>
        </p:nvPicPr>
        <p:blipFill>
          <a:blip r:embed="rId1"/>
          <a:stretch/>
        </p:blipFill>
        <p:spPr>
          <a:xfrm>
            <a:off x="6594480" y="304920"/>
            <a:ext cx="1347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ean Louis Finch – “Scout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37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story’s nar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though now an adult, Scout looks back at her childhood and tells of the momentous events and influential people of those year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cout is six when the story begi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e is naturally curious about lif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3" name="Picture 5" descr="badham213"/>
          <p:cNvPicPr/>
          <p:nvPr/>
        </p:nvPicPr>
        <p:blipFill>
          <a:blip r:embed="rId1"/>
          <a:stretch/>
        </p:blipFill>
        <p:spPr>
          <a:xfrm>
            <a:off x="4913280" y="1598760"/>
            <a:ext cx="350064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cout’s Character Trai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mbo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ulsiv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motion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arm &amp; Friendl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nsitiv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orab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ains in Maturity throughout the No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Picture 5" descr="4764scout"/>
          <p:cNvPicPr/>
          <p:nvPr/>
        </p:nvPicPr>
        <p:blipFill>
          <a:blip r:embed="rId1"/>
          <a:srcRect l="5462" t="2216" r="4435" b="11315"/>
          <a:stretch/>
        </p:blipFill>
        <p:spPr>
          <a:xfrm>
            <a:off x="4876920" y="1523880"/>
            <a:ext cx="2514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tticus Fin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ather of Scout and Je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widow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n attorney by profes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ighly respect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ood citiz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stills good values and morals in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is childre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is children call him “Atticus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ypical southern gentlem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rav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urteou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ft-spok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9" name="Picture 5" descr="060501"/>
          <p:cNvPicPr/>
          <p:nvPr/>
        </p:nvPicPr>
        <p:blipFill>
          <a:blip r:embed="rId1"/>
          <a:stretch/>
        </p:blipFill>
        <p:spPr>
          <a:xfrm>
            <a:off x="5486400" y="1523880"/>
            <a:ext cx="3352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em Fin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Picture 7" descr="plot1.jpg"/>
          <p:cNvPicPr/>
          <p:nvPr/>
        </p:nvPicPr>
        <p:blipFill>
          <a:blip r:embed="rId1"/>
          <a:srcRect l="2671" t="9520" r="44004" b="11908"/>
          <a:stretch/>
        </p:blipFill>
        <p:spPr>
          <a:xfrm>
            <a:off x="5486400" y="1752480"/>
            <a:ext cx="2585880" cy="42674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9"/>
          <p:cNvSpPr/>
          <p:nvPr/>
        </p:nvSpPr>
        <p:spPr>
          <a:xfrm>
            <a:off x="838080" y="1752480"/>
            <a:ext cx="44197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cout’s older broth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ooks up to his father Atticu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ually looks out for Scou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ypical older brother at tim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mar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ssionat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tures as the story progress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lpurn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200040" y="1598760"/>
            <a:ext cx="533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Finch’s black housekeep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s watched the children since their mother’s deat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s been a positive influence on the childre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5" name="Picture 5" descr="CalandScout"/>
          <p:cNvPicPr/>
          <p:nvPr/>
        </p:nvPicPr>
        <p:blipFill>
          <a:blip r:embed="rId1"/>
          <a:srcRect l="47973" t="0" r="0" b="0"/>
          <a:stretch/>
        </p:blipFill>
        <p:spPr>
          <a:xfrm>
            <a:off x="838080" y="1219320"/>
            <a:ext cx="2146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8:09:12Z</dcterms:created>
  <dc:creator>Lisa Ward</dc:creator>
  <dc:description/>
  <dc:language>en-US</dc:language>
  <cp:lastModifiedBy>Hilary Wiltshire</cp:lastModifiedBy>
  <dcterms:modified xsi:type="dcterms:W3CDTF">2011-02-17T22:29:14Z</dcterms:modified>
  <cp:revision>30</cp:revision>
  <dc:subject/>
  <dc:title>To Kill a Mockingbird</dc:title>
</cp:coreProperties>
</file>